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gif" ContentType="image/gif"/>
  <Override PartName="/ppt/media/Jingle%20Bell%20Rock.wav" ContentType="audio/x-wav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967D-4EA9-4E20-9487-8068951FC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C7F5-D9EA-4FD7-98DE-A13C760DA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DFEB-6746-49CE-A2D5-2B8808FF5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7DF6-FB6B-4EA3-A3D7-97BBC2C1D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3258-44F3-441D-8236-B695A2BDE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C36F-D3F7-453B-A0D1-CBEB0BE4D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B8B1-A6A2-4084-83C1-614C737DE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0796-8B70-4D04-8CFD-3B23B43A0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53B2-3F49-400C-B8DE-B64E2D92D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6724-B439-475A-959D-35D27CD3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E7AA-B816-4FA6-9BFB-229BB03F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A56D-EEC2-47CF-8C35-3C9C01F8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62800-8EC6-4B66-BFAE-10470EFF9B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audio" Target="../media/Jingle%20Bell%20Rock.wav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24000" y="189000"/>
            <a:ext cx="74167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>
                    <a:alpha val="75000"/>
                  </a:srgbClr>
                </a:solidFill>
                <a:latin typeface="Times New Roman"/>
              </a:rPr>
              <a:t>JINGLE BELLS ROC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>
                  <a:alpha val="75000"/>
                </a:srgbClr>
              </a:solidFill>
              <a:latin typeface="Times New Roman"/>
              <a:ea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427640" y="5778360"/>
            <a:ext cx="338436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RA, MARÍA, ALB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VAN, ALEX Y JOSE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172360" y="3284640"/>
            <a:ext cx="476280" cy="961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286760" y="404640"/>
            <a:ext cx="641160" cy="1295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 flipH="1">
            <a:off x="-360" y="333360"/>
            <a:ext cx="754200" cy="15829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dissolve/>
    <p:sndAc>
      <p:stSnd>
        <p:snd r:embed="rId5" name="Jingle%20Bell%20Rock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4149360"/>
            <a:ext cx="8229600" cy="249228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ingle bell, jingle bell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ingle bell rock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Jingle bell swingAnd jingle bells ring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nowin' and blowin'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p bushels of fun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ow the jingle hop has begu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55640" y="4724280"/>
            <a:ext cx="1050840" cy="92736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push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9770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Jingle bell, jingle bell  Jingle bell rock 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Jingle bells chime in   Jingle bell time 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ancin' and prancin'In jingle bell square 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 the frosty a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332000" y="4508640"/>
            <a:ext cx="1468440" cy="1957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867280" y="4365720"/>
            <a:ext cx="1467000" cy="195588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What a bright time 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It's the right time 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o rock the night away 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Jingle bell, time 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Is a swell time 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o go glidin' in a 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one horse sle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658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778200" y="307800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5303160"/>
            <a:ext cx="698508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What a bright time It's the right time 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o rock the night away Jingle bell, time 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s a swell time To go glidin' in a </a:t>
            </a: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one horse sle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11560" y="297144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263160"/>
            <a:ext cx="8388360" cy="119124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ff"/>
                </a:solidFill>
                <a:latin typeface="Arial"/>
              </a:rPr>
              <a:t>Giddy-up, jingle horse      Pick up your feet </a:t>
            </a:r>
            <a:br>
              <a:rPr sz="2400"/>
            </a:br>
            <a:r>
              <a:rPr b="1" lang="es-ES" sz="2400" spc="-1" strike="noStrike">
                <a:solidFill>
                  <a:srgbClr val="ff00ff"/>
                </a:solidFill>
                <a:latin typeface="Arial"/>
              </a:rPr>
              <a:t>Jingle around the clock    Mix and mingle </a:t>
            </a:r>
            <a:br>
              <a:rPr sz="2400"/>
            </a:br>
            <a:r>
              <a:rPr b="1" lang="es-ES" sz="2400" spc="-1" strike="noStrike">
                <a:solidFill>
                  <a:srgbClr val="ff00ff"/>
                </a:solidFill>
                <a:latin typeface="Arial"/>
              </a:rPr>
              <a:t>In a jinglin' beat     That's the jingle bell ro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"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9T15:34:49Z</dcterms:created>
  <dc:creator>pc10</dc:creator>
  <dc:description/>
  <dc:language>en-US</dc:language>
  <cp:lastModifiedBy>pc10</cp:lastModifiedBy>
  <dcterms:modified xsi:type="dcterms:W3CDTF">2011-12-21T10:05:56Z</dcterms:modified>
  <cp:revision>8</cp:revision>
  <dc:subject/>
  <dc:title>Diapositiva 1</dc:title>
</cp:coreProperties>
</file>